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116-1CA4-452C-8A89-34905EB10A2B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5651640" y="3141720"/>
            <a:ext cx="3744720" cy="3743280"/>
          </a:xfrm>
          <a:prstGeom prst="rect">
            <a:avLst/>
          </a:prstGeom>
          <a:blipFill rotWithShape="0">
            <a:blip r:embed="rId2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3"/>
          <a:stretch/>
        </p:blipFill>
        <p:spPr>
          <a:xfrm>
            <a:off x="282600" y="7920"/>
            <a:ext cx="904680" cy="90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AF8-69E2-4F4F-AD2D-FD22B5153150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FD2-9359-4EA0-895A-C9F1582CBCA1}" type="datetime"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4572000" y="1052640"/>
            <a:ext cx="0" cy="53481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7D31-735E-45BB-A0D9-AE793543BE31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8"/>
          <p:cNvSpPr/>
          <p:nvPr/>
        </p:nvSpPr>
        <p:spPr>
          <a:xfrm>
            <a:off x="2774880" y="1052640"/>
            <a:ext cx="0" cy="531792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3A1-3579-4961-8888-24ED401C2148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5254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E118-7D6E-4F38-861B-0FE3169B20F5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B087-793C-4D12-BB31-8102A8858D8B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04:54:03Z</dcterms:created>
  <dc:creator>Quanquan</dc:creator>
  <dc:description/>
  <dc:language>en-US</dc:language>
  <cp:lastModifiedBy>Haidong Chen</cp:lastModifiedBy>
  <dcterms:modified xsi:type="dcterms:W3CDTF">2012-05-03T09:13:50Z</dcterms:modified>
  <cp:revision>37</cp:revision>
  <dc:subject/>
  <dc:title>PowerPoint 演示文稿</dc:title>
</cp:coreProperties>
</file>